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237486-A55D-42D8-871B-49CBCBFBE62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move the slide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B1D854-269F-48A0-936B-A92F101BDA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083025-4464-486C-8494-EF9464A37F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2F1F-6BE9-4215-BEF6-6BB3432C2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11F9-AD88-4649-870F-653EEE947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E2C2-807B-4E3E-A5E6-F5C2DA9B1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C03A-45C0-4DCD-9885-932FFC390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17E39-F279-4DB9-B03E-53AA7DFA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DCECB-F3AA-4E55-9604-C9FE0EE0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21CD9-741A-464F-80A3-91B2122FD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62C97-B4DB-4016-9F0C-FC39FA3B5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E85D9-BE8A-40B2-9C46-8E01CB4E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A1CF-0F4B-4125-8A4B-64F7D680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559E8-A170-4225-ADFC-AA9885EA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6BEA-E6FC-4E56-9644-EA49A237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6E1A1-01EB-4BBA-876E-210A22E12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D08BE-C36C-4D9C-9135-DF15F88E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9D81-F057-4FF5-9A55-54CA1AEBF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18C8C-DC23-4B9C-B388-0E8DCD5B7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7CF4-3E95-486D-A9B0-F74EF38E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905196-2A64-49F4-91E4-918FA990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673530-19CC-4EA4-A4C5-FF6B8A49E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D2DB9D-03BE-4580-B967-EA52FA09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74D8A8-6488-4207-A5CC-D7C09F7AD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0215327-2576-44FE-AD1E-83FC1135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610B-B7FA-4B3F-B50E-85767DCA6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AB7BED-208A-44B4-88A7-88DDC866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609269-3620-40E1-9382-C3AA2BAC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9DA112-9753-476A-8E77-89154137B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CCCC93-0E19-41FF-AB5B-E00DD938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8DF3B0-9E96-413F-A5AD-EC00B82C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4E4940-6EDF-48EC-BFDF-2C0A8B31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C4C22F-8211-4ABB-B879-C47A4A7C3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130627-4E37-47DE-A928-31537B44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06C453-86BB-45B7-9F5B-785569BF8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39A8F-4BC4-49CB-9EB6-FF0CFF0F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BE38-894B-4928-B9F7-BBD1C88E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04872-401B-4750-B245-221DF3886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A95611-580E-4429-967E-7CC1C362C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62EDDF-F869-4C3E-9D0E-45905715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6A389-CB3F-47A4-B1A2-3F2FC9DC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9FF41-AF0B-45A0-A23C-781CDED1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4BC72-BCF8-451B-BA22-7E8C3098D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BBC165-D798-4C94-B5F5-E012CB5A0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A1F0C-77E7-47D2-9E0F-C6A1CBF8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BFC514-4305-41A1-9249-EE9B68083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614D-763F-4575-BE61-BA8F17BA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DDF4-92EE-484E-B8FA-BDB2EB314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2596-F862-4DB1-811D-366D1AF8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554C-0E74-4E12-8D86-4C52477D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6862-35F8-446C-B6FC-1AC47F99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080" cy="7116840"/>
            <a:chOff x="-567360" y="0"/>
            <a:chExt cx="10459080" cy="711684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552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552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552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508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3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800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736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496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4104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56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188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3032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428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796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668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336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28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32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32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440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50456-1E3C-4D7F-962F-6A360B899112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D131A7-A0B6-4EFB-B5CD-11DCA66D56D5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4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25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2847D5-5144-465E-B2BE-8716D854B049}" type="datetime"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73EAAA-48FD-4DB3-98AA-4BBE939CA1DF}" type="slidenum">
              <a:rPr b="0" lang="en-US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C14BD0-5A53-4B17-88CA-FB06E805E3E7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425802-2AE4-4C26-A137-3DECB39DA684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080" cy="7116840"/>
            <a:chOff x="-645120" y="0"/>
            <a:chExt cx="10459080" cy="711684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20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17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18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19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Rectangle 115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16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1880" y="5035320"/>
              <a:ext cx="9144720" cy="117540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1880" y="3467520"/>
              <a:ext cx="9144720" cy="89064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840"/>
              <a:ext cx="300456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1880" y="5284440"/>
              <a:ext cx="9144720" cy="147852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7320" y="5132160"/>
              <a:ext cx="6983280" cy="171972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2024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9600" y="15919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7200" y="325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3280" y="53830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320" y="4201200"/>
              <a:ext cx="1261440" cy="138816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4120" y="54021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2560" y="28494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6520" y="412560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10200" y="541152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920" y="285876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5600" y="1563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520" y="41446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560" y="542124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560" y="2868480"/>
              <a:ext cx="1601280" cy="1388160"/>
            </a:xfrm>
            <a:prstGeom prst="hexagon">
              <a:avLst>
                <a:gd name="adj" fmla="val 28544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6640" y="4055760"/>
              <a:ext cx="1243440" cy="138816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1280"/>
              <a:ext cx="124200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Rectangle 12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24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5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26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C38EBED-0F0E-4896-982E-7579E0D15C0F}" type="datetime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418D49-5401-4E45-B303-461E9A6A0AF3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DEFINITE ARTICLES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entury Gothic"/>
              </a:rPr>
              <a:t>el, la, los, las</a:t>
            </a:r>
            <a:endParaRPr b="0" lang="en-US" sz="18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You try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262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e3d2d"/>
                </a:solidFill>
                <a:latin typeface="Century Gothic"/>
              </a:rPr>
              <a:t>The girl  =     la chica</a:t>
            </a:r>
            <a:endParaRPr b="0" lang="en-US" sz="45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3e3d2d"/>
              </a:solidFill>
              <a:latin typeface="Century Gothic"/>
            </a:endParaRPr>
          </a:p>
          <a:p>
            <a:pPr marL="329040" indent="-262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e3d2d"/>
                </a:solidFill>
                <a:latin typeface="Century Gothic"/>
              </a:rPr>
              <a:t>The girls = _______________</a:t>
            </a:r>
            <a:endParaRPr b="0" lang="en-US" sz="45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nsw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e girl  =     la chic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e girls = </a:t>
            </a:r>
            <a:r>
              <a:rPr b="0" lang="en-US" sz="2400" spc="-1" strike="noStrike">
                <a:solidFill>
                  <a:srgbClr val="0000ff"/>
                </a:solidFill>
                <a:latin typeface="Century Gothic"/>
              </a:rPr>
              <a:t>las chica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You try: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25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45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4500" spc="-1" strike="noStrike">
                <a:solidFill>
                  <a:srgbClr val="3e3d2d"/>
                </a:solidFill>
                <a:latin typeface="Century Gothic"/>
              </a:rPr>
              <a:t>the hat  = el sombrero</a:t>
            </a:r>
            <a:endParaRPr b="0" lang="en-US" sz="45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3e3d2d"/>
              </a:solidFill>
              <a:latin typeface="Century Gothic"/>
            </a:endParaRPr>
          </a:p>
          <a:p>
            <a:pPr marL="318960" indent="-2538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4500" spc="-1" strike="noStrike">
                <a:solidFill>
                  <a:srgbClr val="3e3d2d"/>
                </a:solidFill>
                <a:latin typeface="Century Gothic"/>
              </a:rPr>
              <a:t>the hats = _______________</a:t>
            </a:r>
            <a:endParaRPr b="0" lang="en-US" sz="45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4500" spc="-1" strike="noStrike">
                <a:solidFill>
                  <a:srgbClr val="3e3d2d"/>
                </a:solidFill>
                <a:latin typeface="Century Gothic"/>
              </a:rPr>
              <a:t>the hat  = el sombrero</a:t>
            </a:r>
            <a:endParaRPr b="0" lang="en-US" sz="45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4500" spc="-1" strike="noStrike">
                <a:solidFill>
                  <a:srgbClr val="3e3d2d"/>
                </a:solidFill>
                <a:latin typeface="Century Gothic"/>
              </a:rPr>
              <a:t>the hats =  </a:t>
            </a:r>
            <a:r>
              <a:rPr b="0" lang="en-US" sz="4500" spc="-1" strike="noStrike">
                <a:solidFill>
                  <a:srgbClr val="0000ff"/>
                </a:solidFill>
                <a:latin typeface="Century Gothic"/>
              </a:rPr>
              <a:t>los sombreros</a:t>
            </a:r>
            <a:endParaRPr b="0" lang="en-US" sz="45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l, la, los, las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______   zapato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______   chaquet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______   zapato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nsw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l   zapato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a   chaquet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os   zapato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l, la, los, las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____  sombrero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____ chica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____ amig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answer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l   sombrero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as  chica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a  amiga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Century Gothic"/>
              </a:rPr>
              <a:t>GENDER – masculine and feminine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n Spanish, all nouns (people, animals, places or things) are either masculine or feminin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You can tell by looking at the </a:t>
            </a:r>
            <a:r>
              <a:rPr b="0" lang="en-US" sz="2400" spc="-1" strike="noStrike">
                <a:solidFill>
                  <a:srgbClr val="ff6600"/>
                </a:solidFill>
                <a:latin typeface="Century Gothic"/>
              </a:rPr>
              <a:t>el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or </a:t>
            </a:r>
            <a:r>
              <a:rPr b="0" lang="en-US" sz="2400" spc="-1" strike="noStrike">
                <a:solidFill>
                  <a:srgbClr val="ff6600"/>
                </a:solidFill>
                <a:latin typeface="Century Gothic"/>
              </a:rPr>
              <a:t>la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in front of the word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entury Gothic"/>
              </a:rPr>
              <a:t>el</a:t>
            </a: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 and </a:t>
            </a:r>
            <a:r>
              <a:rPr b="0" lang="en-US" sz="4000" spc="-1" strike="noStrike">
                <a:solidFill>
                  <a:srgbClr val="008000"/>
                </a:solidFill>
                <a:latin typeface="Century Gothic"/>
              </a:rPr>
              <a:t>la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entury Gothic"/>
              </a:rPr>
              <a:t>el</a:t>
            </a:r>
            <a:r>
              <a:rPr b="0" lang="en-US" sz="4000" spc="-1" strike="noStrike">
                <a:solidFill>
                  <a:srgbClr val="3e3d2d"/>
                </a:solidFill>
                <a:latin typeface="Century Gothic"/>
              </a:rPr>
              <a:t> in front of the word means it’s </a:t>
            </a:r>
            <a:r>
              <a:rPr b="0" lang="en-US" sz="4000" spc="-1" strike="noStrike">
                <a:solidFill>
                  <a:srgbClr val="008000"/>
                </a:solidFill>
                <a:latin typeface="Century Gothic"/>
              </a:rPr>
              <a:t>masculine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Century Gothic"/>
              </a:rPr>
              <a:t>la</a:t>
            </a:r>
            <a:r>
              <a:rPr b="0" lang="en-US" sz="4000" spc="-1" strike="noStrike">
                <a:solidFill>
                  <a:srgbClr val="3e3d2d"/>
                </a:solidFill>
                <a:latin typeface="Century Gothic"/>
              </a:rPr>
              <a:t> in front of the word means it’s </a:t>
            </a:r>
            <a:r>
              <a:rPr b="0" lang="en-US" sz="4000" spc="-1" strike="noStrike">
                <a:solidFill>
                  <a:srgbClr val="008000"/>
                </a:solidFill>
                <a:latin typeface="Century Gothic"/>
              </a:rPr>
              <a:t>feminine</a:t>
            </a:r>
            <a:endParaRPr b="0" lang="en-US" sz="40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los and las - plurality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ff"/>
                </a:solidFill>
                <a:latin typeface="Century Gothic"/>
              </a:rPr>
              <a:t>el</a:t>
            </a: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 is singular, </a:t>
            </a:r>
            <a:r>
              <a:rPr b="0" lang="en-US" sz="4200" spc="-1" strike="noStrike">
                <a:solidFill>
                  <a:srgbClr val="0000ff"/>
                </a:solidFill>
                <a:latin typeface="Century Gothic"/>
              </a:rPr>
              <a:t>los</a:t>
            </a: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 is plural</a:t>
            </a: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8000"/>
                </a:solidFill>
                <a:latin typeface="Century Gothic"/>
              </a:rPr>
              <a:t>la</a:t>
            </a: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 is singular, </a:t>
            </a:r>
            <a:r>
              <a:rPr b="0" lang="en-US" sz="4200" spc="-1" strike="noStrike">
                <a:solidFill>
                  <a:srgbClr val="008000"/>
                </a:solidFill>
                <a:latin typeface="Century Gothic"/>
              </a:rPr>
              <a:t>las</a:t>
            </a: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 is plural</a:t>
            </a: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Generally speaking, el, la, los and las mean THE</a:t>
            </a: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l, la, los, la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e3d2d"/>
                </a:solidFill>
                <a:latin typeface="Century Gothic"/>
              </a:rPr>
              <a:t>For example:     </a:t>
            </a: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la camiseta</a:t>
            </a: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the t-shirt</a:t>
            </a: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las camisetas</a:t>
            </a: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the t-shirts</a:t>
            </a: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2" name="Picture 5" descr="blue-shirt-md.png"/>
          <p:cNvPicPr/>
          <p:nvPr/>
        </p:nvPicPr>
        <p:blipFill>
          <a:blip r:embed="rId1"/>
          <a:stretch/>
        </p:blipFill>
        <p:spPr>
          <a:xfrm>
            <a:off x="4084560" y="4724280"/>
            <a:ext cx="974880" cy="965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6" descr="blue-shirt-md.png"/>
          <p:cNvPicPr/>
          <p:nvPr/>
        </p:nvPicPr>
        <p:blipFill>
          <a:blip r:embed="rId2"/>
          <a:stretch/>
        </p:blipFill>
        <p:spPr>
          <a:xfrm>
            <a:off x="5334120" y="4724280"/>
            <a:ext cx="974520" cy="9651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7" descr="blue-shirt-md.png"/>
          <p:cNvPicPr/>
          <p:nvPr/>
        </p:nvPicPr>
        <p:blipFill>
          <a:blip r:embed="rId3"/>
          <a:stretch/>
        </p:blipFill>
        <p:spPr>
          <a:xfrm>
            <a:off x="4359240" y="2133720"/>
            <a:ext cx="97488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el, la, los, las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el vestido</a:t>
            </a: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the dress</a:t>
            </a: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los vestidos</a:t>
            </a: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7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e3d2d"/>
                </a:solidFill>
                <a:latin typeface="Century Gothic"/>
              </a:rPr>
              <a:t>the dresses</a:t>
            </a:r>
            <a:endParaRPr b="0" lang="en-US" sz="4200" spc="-1" strike="noStrike">
              <a:solidFill>
                <a:srgbClr val="3e3d2d"/>
              </a:solidFill>
              <a:latin typeface="Century Gothic"/>
            </a:endParaRPr>
          </a:p>
        </p:txBody>
      </p:sp>
      <p:pic>
        <p:nvPicPr>
          <p:cNvPr id="357" name="Picture 3" descr="40sbuttondress.flat.jpg"/>
          <p:cNvPicPr/>
          <p:nvPr/>
        </p:nvPicPr>
        <p:blipFill>
          <a:blip r:embed="rId1"/>
          <a:stretch/>
        </p:blipFill>
        <p:spPr>
          <a:xfrm>
            <a:off x="4572000" y="1600200"/>
            <a:ext cx="1841400" cy="201132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4" descr="40sbuttondress.flat.jpg"/>
          <p:cNvPicPr/>
          <p:nvPr/>
        </p:nvPicPr>
        <p:blipFill>
          <a:blip r:embed="rId2"/>
          <a:stretch/>
        </p:blipFill>
        <p:spPr>
          <a:xfrm>
            <a:off x="3651120" y="4114800"/>
            <a:ext cx="1073160" cy="17524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5" descr="40sbuttondress.flat.jpg"/>
          <p:cNvPicPr/>
          <p:nvPr/>
        </p:nvPicPr>
        <p:blipFill>
          <a:blip r:embed="rId3"/>
          <a:stretch/>
        </p:blipFill>
        <p:spPr>
          <a:xfrm>
            <a:off x="5035680" y="4114800"/>
            <a:ext cx="113652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How do I know the gender of a new word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Usually when a word ends in “O” it’s masculin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Usually when a word ends in “A”it’s feminin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l chico, el libro, el niño, el sombrero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a chica, la chaqueta, la camisa, la pluma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4c600"/>
                </a:solidFill>
                <a:latin typeface="Century Gothic"/>
              </a:rPr>
              <a:t>How do I know the gender of a new word?</a:t>
            </a:r>
            <a:endParaRPr b="0" lang="en-US" sz="36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If the word does not end in “O” or “A”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ike:   suéte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aís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prosperida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ador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You have to simply learn and memorize the gender of the wor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How do I know the gender of the word?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Once in a while a word that ends in  “o”will have a “la”in front of it.    Again, gender of words is something you just learn and memorize with time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Example:        la mano      hand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	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     </a:t>
            </a: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la radio       radio   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0:18:48Z</dcterms:created>
  <dc:creator>Sarah Ruiz</dc:creator>
  <dc:description/>
  <dc:language>en-US</dc:language>
  <cp:lastModifiedBy>Prine, Stephanie</cp:lastModifiedBy>
  <dcterms:modified xsi:type="dcterms:W3CDTF">2012-10-04T16:44:23Z</dcterms:modified>
  <cp:revision>9</cp:revision>
  <dc:subject/>
  <dc:title>DEFINITE ARTICLES</dc:title>
</cp:coreProperties>
</file>